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8.wmf" ContentType="image/x-wmf"/>
  <Override PartName="/ppt/media/image10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043-5ABA-41D9-A875-E06AD893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CA7-AEB1-43F0-95F8-0445254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5CD-4691-4FA7-9DC0-A2425A9F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D24-6520-425C-941B-A8926148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EB3-F576-4FEE-8A63-D120A32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E20-21E9-487E-9397-98B52F07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D1D-25C7-440D-946B-E5B012A9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8B8-6A83-435E-9D87-A46440AA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799-D0AC-45C9-8B09-002D9C2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2DD-7DCF-471B-92CF-6F2ECC7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C39-5267-43B9-B72F-093752CB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A0B-FBA5-4A89-9BC1-3BE8ACE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F8AF-F2C0-480A-9088-DE6D693C3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" Target="slide56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8.xml"/><Relationship Id="rId7" Type="http://schemas.openxmlformats.org/officeDocument/2006/relationships/slide" Target="slide27.xml"/><Relationship Id="rId8" Type="http://schemas.openxmlformats.org/officeDocument/2006/relationships/slide" Target="slide22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7.xml"/><Relationship Id="rId12" Type="http://schemas.openxmlformats.org/officeDocument/2006/relationships/slide" Target="slide26.xml"/><Relationship Id="rId13" Type="http://schemas.openxmlformats.org/officeDocument/2006/relationships/slide" Target="slide21.xml"/><Relationship Id="rId14" Type="http://schemas.openxmlformats.org/officeDocument/2006/relationships/slide" Target="slide16.xml"/><Relationship Id="rId15" Type="http://schemas.openxmlformats.org/officeDocument/2006/relationships/slide" Target="slide55.xml"/><Relationship Id="rId16" Type="http://schemas.openxmlformats.org/officeDocument/2006/relationships/slide" Target="slide6.xml"/><Relationship Id="rId17" Type="http://schemas.openxmlformats.org/officeDocument/2006/relationships/slide" Target="slide25.xml"/><Relationship Id="rId18" Type="http://schemas.openxmlformats.org/officeDocument/2006/relationships/slide" Target="slide20.xml"/><Relationship Id="rId19" Type="http://schemas.openxmlformats.org/officeDocument/2006/relationships/slide" Target="slide15.xml"/><Relationship Id="rId20" Type="http://schemas.openxmlformats.org/officeDocument/2006/relationships/slide" Target="slide10.xml"/><Relationship Id="rId21" Type="http://schemas.openxmlformats.org/officeDocument/2006/relationships/slide" Target="slide5.xml"/><Relationship Id="rId22" Type="http://schemas.openxmlformats.org/officeDocument/2006/relationships/slide" Target="slide24.xml"/><Relationship Id="rId23" Type="http://schemas.openxmlformats.org/officeDocument/2006/relationships/slide" Target="slide19.xml"/><Relationship Id="rId24" Type="http://schemas.openxmlformats.org/officeDocument/2006/relationships/slide" Target="slide14.xml"/><Relationship Id="rId25" Type="http://schemas.openxmlformats.org/officeDocument/2006/relationships/slide" Target="slide9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915400" cy="6553080"/>
            <a:chOff x="0" y="0"/>
            <a:chExt cx="8915400" cy="655308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8915400" cy="655308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04920" y="1219320"/>
              <a:ext cx="8229600" cy="421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JEOPARD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4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has a slope of         and goes through the point (2, 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634000" y="2649600"/>
          <a:ext cx="687600" cy="72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4000" y="2649600"/>
                    <a:ext cx="687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4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939960" y="2222640"/>
            <a:ext cx="741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s (5, 9) and (–3, –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54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39960" y="2222640"/>
            <a:ext cx="741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has a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–3 and a slope of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5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39960" y="2222640"/>
            <a:ext cx="741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 (5, 8) and is perpendicular to the line                  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58080" y="3171960"/>
          <a:ext cx="19825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58080" y="3171960"/>
                    <a:ext cx="19825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66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tandard form with all the letters expl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71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3321000" y="3127320"/>
          <a:ext cx="198108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1000" y="3127320"/>
                    <a:ext cx="1981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79400" y="1994040"/>
            <a:ext cx="759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write the equation below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7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79400" y="1994040"/>
            <a:ext cx="75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 that has a slope of –2 and 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8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79400" y="1994040"/>
            <a:ext cx="75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 that goes through the points (–1, 4) and (–7, –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8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9400" y="1994040"/>
            <a:ext cx="75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 that has a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5 and 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–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9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equation of the line passing through the point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, 7) and (–9, 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110360" y="1627200"/>
            <a:ext cx="1690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8000" y="1627200"/>
            <a:ext cx="1692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26000" y="1627200"/>
            <a:ext cx="1692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3640" y="1627200"/>
            <a:ext cx="1692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1627200"/>
            <a:ext cx="16905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10360" y="304920"/>
            <a:ext cx="169092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tt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8000" y="304920"/>
            <a:ext cx="169236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 Mixe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26000" y="304920"/>
            <a:ext cx="169200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ndar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3640" y="304920"/>
            <a:ext cx="169236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int Slop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" y="304920"/>
            <a:ext cx="169056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lope Intercep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10360" y="5673600"/>
            <a:ext cx="169092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8000" y="5673600"/>
            <a:ext cx="169236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6000" y="5673600"/>
            <a:ext cx="169200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33640" y="5673600"/>
            <a:ext cx="169236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80" y="5673600"/>
            <a:ext cx="169056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10360" y="4740120"/>
            <a:ext cx="169092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8000" y="474012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26000" y="4740120"/>
            <a:ext cx="169200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3640" y="474012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3080" y="4740120"/>
            <a:ext cx="16905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10360" y="3807000"/>
            <a:ext cx="169092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8000" y="3807000"/>
            <a:ext cx="169236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6000" y="3807000"/>
            <a:ext cx="169200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3640" y="3807000"/>
            <a:ext cx="169236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3080" y="3807000"/>
            <a:ext cx="169056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10360" y="2874960"/>
            <a:ext cx="169092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8000" y="2874960"/>
            <a:ext cx="169236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26000" y="2874960"/>
            <a:ext cx="169200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3640" y="2874960"/>
            <a:ext cx="169236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3080" y="2874960"/>
            <a:ext cx="169056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10360" y="1941480"/>
            <a:ext cx="169092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8000" y="194148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26000" y="1941480"/>
            <a:ext cx="169200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080" y="1941480"/>
            <a:ext cx="16905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3640" y="194148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3080" y="287496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080" y="380700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080" y="474012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80" y="567360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3080" y="655308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3364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2600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800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1036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080" y="1627200"/>
            <a:ext cx="0" cy="31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01280" y="1627200"/>
            <a:ext cx="0" cy="31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080" y="304920"/>
            <a:ext cx="8458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080" y="194148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8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3364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2600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800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0128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3080" y="1627200"/>
            <a:ext cx="8458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0128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9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equation of the line passing through the point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6, 7) and (–6, –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0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4800600" y="1905120"/>
          <a:ext cx="2697120" cy="40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905120"/>
                    <a:ext cx="269712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62120" y="2286000"/>
            <a:ext cx="327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of these lines is perpendicular to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9000" y="4405320"/>
          <a:ext cx="2495520" cy="13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9000" y="4405320"/>
                    <a:ext cx="2495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1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09880" y="1577880"/>
            <a:ext cx="4530960" cy="4670640"/>
            <a:chOff x="3809880" y="1577880"/>
            <a:chExt cx="4530960" cy="4670640"/>
          </a:xfrm>
        </p:grpSpPr>
        <p:grpSp>
          <p:nvGrpSpPr>
            <p:cNvPr id="215" name=""/>
            <p:cNvGrpSpPr/>
            <p:nvPr/>
          </p:nvGrpSpPr>
          <p:grpSpPr>
            <a:xfrm>
              <a:off x="3962520" y="1577880"/>
              <a:ext cx="4378320" cy="4670640"/>
              <a:chOff x="3962520" y="1577880"/>
              <a:chExt cx="4378320" cy="4670640"/>
            </a:xfrm>
          </p:grpSpPr>
          <p:sp>
            <p:nvSpPr>
              <p:cNvPr id="216" name=""/>
              <p:cNvSpPr/>
              <p:nvPr/>
            </p:nvSpPr>
            <p:spPr>
              <a:xfrm>
                <a:off x="586584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10120" y="21477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10120" y="25351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10120" y="29210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10120" y="33066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10120" y="36925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10120" y="40784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10120" y="56228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10120" y="44658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10120" y="48513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10120" y="52372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1012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6076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1176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6240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1484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1648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6748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1992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7092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20120" y="2149560"/>
                <a:ext cx="0" cy="3859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62520" y="4078440"/>
                <a:ext cx="3879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34240" y="3894120"/>
                <a:ext cx="606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87920" y="1577880"/>
                <a:ext cx="60660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29200" y="6008760"/>
                <a:ext cx="35114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5840" y="1982880"/>
                <a:ext cx="0" cy="4265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 flipH="1">
              <a:off x="3809880" y="1816200"/>
              <a:ext cx="3353040" cy="2793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990720" y="2819520"/>
            <a:ext cx="20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is the equation of the line sh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46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2666880" y="2895480"/>
          <a:ext cx="3818160" cy="215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895480"/>
                    <a:ext cx="381816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8580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of these lines are parallel to each 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5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19720" y="1600200"/>
            <a:ext cx="4378320" cy="4669920"/>
            <a:chOff x="4419720" y="1600200"/>
            <a:chExt cx="4378320" cy="4669920"/>
          </a:xfrm>
        </p:grpSpPr>
        <p:grpSp>
          <p:nvGrpSpPr>
            <p:cNvPr id="256" name=""/>
            <p:cNvGrpSpPr/>
            <p:nvPr/>
          </p:nvGrpSpPr>
          <p:grpSpPr>
            <a:xfrm>
              <a:off x="4419720" y="1600200"/>
              <a:ext cx="4378320" cy="4669920"/>
              <a:chOff x="4419720" y="1600200"/>
              <a:chExt cx="4378320" cy="4669920"/>
            </a:xfrm>
          </p:grpSpPr>
          <p:sp>
            <p:nvSpPr>
              <p:cNvPr id="257" name=""/>
              <p:cNvSpPr/>
              <p:nvPr/>
            </p:nvSpPr>
            <p:spPr>
              <a:xfrm>
                <a:off x="6323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67320" y="21697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67320" y="25570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67320" y="29430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67320" y="33285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67320" y="37144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67320" y="41004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67320" y="56448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67320" y="44877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67320" y="48733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67320" y="52592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673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17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68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1960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72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73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24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77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28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77320" y="2171520"/>
                <a:ext cx="0" cy="3858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19720" y="4100400"/>
                <a:ext cx="3879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191440" y="3916080"/>
                <a:ext cx="6066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45120" y="1600200"/>
                <a:ext cx="606600" cy="5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86400" y="6030720"/>
                <a:ext cx="35114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23040" y="2004840"/>
                <a:ext cx="0" cy="4265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5715000" y="46479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7120" y="35049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1320" y="39621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15000" y="43430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77120" y="39621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3581280"/>
              <a:ext cx="76320" cy="75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6240" y="45716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2040" y="350496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920" y="41907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5720" y="30477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800" y="43430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29714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85800" y="20113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raph to the right shows what type of corre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19810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ch of the points could be used to find the equation of the line of best 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9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19720" y="1600200"/>
            <a:ext cx="4378320" cy="4669920"/>
            <a:chOff x="4419720" y="1600200"/>
            <a:chExt cx="4378320" cy="4669920"/>
          </a:xfrm>
        </p:grpSpPr>
        <p:grpSp>
          <p:nvGrpSpPr>
            <p:cNvPr id="302" name=""/>
            <p:cNvGrpSpPr/>
            <p:nvPr/>
          </p:nvGrpSpPr>
          <p:grpSpPr>
            <a:xfrm>
              <a:off x="4419720" y="1600200"/>
              <a:ext cx="4378320" cy="4669920"/>
              <a:chOff x="4419720" y="1600200"/>
              <a:chExt cx="4378320" cy="4669920"/>
            </a:xfrm>
          </p:grpSpPr>
          <p:sp>
            <p:nvSpPr>
              <p:cNvPr id="303" name=""/>
              <p:cNvSpPr/>
              <p:nvPr/>
            </p:nvSpPr>
            <p:spPr>
              <a:xfrm>
                <a:off x="6323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67320" y="21697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67320" y="25570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67320" y="29430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67320" y="33285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67320" y="37144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67320" y="41004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67320" y="56448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67320" y="44877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67320" y="48733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67320" y="52592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673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17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68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1960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972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73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24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7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728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077320" y="2171520"/>
                <a:ext cx="0" cy="3858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4100400"/>
                <a:ext cx="3879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191440" y="3916080"/>
                <a:ext cx="6066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45120" y="1600200"/>
                <a:ext cx="606600" cy="5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86400" y="6030720"/>
                <a:ext cx="35114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23040" y="2004840"/>
                <a:ext cx="0" cy="4265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383160" y="42721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19760" y="302256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6680" y="330192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29360" y="30560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48229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32440" y="45975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3440" y="34146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89720" y="443232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29400" y="406404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42000" y="41911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43600" y="2514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65880" y="382752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53000" y="1973160"/>
              <a:ext cx="1730520" cy="3810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24720" y="36608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42160" y="329724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57840" y="27018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049400" y="3805200"/>
            <a:ext cx="2541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 (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 (1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) 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1, 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)  (1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34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12800" y="2192400"/>
            <a:ext cx="77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your own words, explain the steps used to find the equation of a line from a scatter p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35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711680" y="3129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11880" y="3841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60840" y="31813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18280" y="29606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00920" y="3505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27720" y="279576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0800" y="4262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64440" y="47401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72120" y="34574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67320" y="36655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34120" y="4060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32800" y="460692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18800" y="2818440"/>
            <a:ext cx="3624480" cy="2091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34196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75480" y="31622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94360" y="283536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419720" y="1612800"/>
            <a:ext cx="4378320" cy="4670640"/>
            <a:chOff x="4419720" y="1612800"/>
            <a:chExt cx="4378320" cy="4670640"/>
          </a:xfrm>
        </p:grpSpPr>
        <p:sp>
          <p:nvSpPr>
            <p:cNvPr id="372" name=""/>
            <p:cNvSpPr/>
            <p:nvPr/>
          </p:nvSpPr>
          <p:spPr>
            <a:xfrm>
              <a:off x="632304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67320" y="218268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67320" y="257004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67320" y="295596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67320" y="334152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7320" y="372744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67320" y="411336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7320" y="565776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67320" y="450072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67320" y="488628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67320" y="527220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6732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1796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6896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960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7204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7368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2468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7712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2812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77320" y="2184480"/>
              <a:ext cx="0" cy="3859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19720" y="4113360"/>
              <a:ext cx="38797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91440" y="3929040"/>
              <a:ext cx="606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5120" y="1612800"/>
              <a:ext cx="6066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86400" y="6043680"/>
              <a:ext cx="351144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3040" y="2017800"/>
              <a:ext cx="0" cy="4265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078520" y="318780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19760" y="43178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78280" y="2822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95960" y="32749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6200" y="359100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59600" y="43862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59640" y="40910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8320" y="3844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94400" y="34099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21200" y="379260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29400" y="46576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4280" y="4114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70520" y="30463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8600" y="36910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3840" y="43736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7272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ch of the equations could be the equation of the line of best 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182600" y="3487680"/>
            <a:ext cx="2282760" cy="728640"/>
            <a:chOff x="1182600" y="3487680"/>
            <a:chExt cx="2282760" cy="728640"/>
          </a:xfrm>
        </p:grpSpPr>
        <p:sp>
          <p:nvSpPr>
            <p:cNvPr id="415" name=""/>
            <p:cNvSpPr/>
            <p:nvPr/>
          </p:nvSpPr>
          <p:spPr>
            <a:xfrm>
              <a:off x="1182600" y="362412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6" name=""/>
            <p:cNvGraphicFramePr/>
            <p:nvPr/>
          </p:nvGraphicFramePr>
          <p:xfrm>
            <a:off x="1846440" y="3487680"/>
            <a:ext cx="1618920" cy="72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46440" y="3487680"/>
                      <a:ext cx="161892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8" name=""/>
          <p:cNvGrpSpPr/>
          <p:nvPr/>
        </p:nvGrpSpPr>
        <p:grpSpPr>
          <a:xfrm>
            <a:off x="1182600" y="4286160"/>
            <a:ext cx="2282760" cy="459720"/>
            <a:chOff x="1182600" y="4286160"/>
            <a:chExt cx="2282760" cy="459720"/>
          </a:xfrm>
        </p:grpSpPr>
        <p:graphicFrame>
          <p:nvGraphicFramePr>
            <p:cNvPr id="419" name=""/>
            <p:cNvGraphicFramePr/>
            <p:nvPr/>
          </p:nvGraphicFramePr>
          <p:xfrm>
            <a:off x="1954080" y="4325760"/>
            <a:ext cx="1511280" cy="37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54080" y="4325760"/>
                      <a:ext cx="151128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1" name=""/>
            <p:cNvSpPr/>
            <p:nvPr/>
          </p:nvSpPr>
          <p:spPr>
            <a:xfrm>
              <a:off x="1182600" y="428616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182600" y="4813200"/>
            <a:ext cx="2187720" cy="459720"/>
            <a:chOff x="1182600" y="4813200"/>
            <a:chExt cx="2187720" cy="459720"/>
          </a:xfrm>
        </p:grpSpPr>
        <p:graphicFrame>
          <p:nvGraphicFramePr>
            <p:cNvPr id="423" name=""/>
            <p:cNvGraphicFramePr/>
            <p:nvPr/>
          </p:nvGraphicFramePr>
          <p:xfrm>
            <a:off x="2048040" y="4853160"/>
            <a:ext cx="1322280" cy="37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48040" y="4853160"/>
                      <a:ext cx="132228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5" name=""/>
            <p:cNvSpPr/>
            <p:nvPr/>
          </p:nvSpPr>
          <p:spPr>
            <a:xfrm>
              <a:off x="1182600" y="481320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182600" y="5342040"/>
            <a:ext cx="2282760" cy="728640"/>
            <a:chOff x="1182600" y="5342040"/>
            <a:chExt cx="2282760" cy="728640"/>
          </a:xfrm>
        </p:grpSpPr>
        <p:graphicFrame>
          <p:nvGraphicFramePr>
            <p:cNvPr id="427" name=""/>
            <p:cNvGraphicFramePr/>
            <p:nvPr/>
          </p:nvGraphicFramePr>
          <p:xfrm>
            <a:off x="2062080" y="5342040"/>
            <a:ext cx="1403280" cy="728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062080" y="5342040"/>
                      <a:ext cx="14032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"/>
            <p:cNvSpPr/>
            <p:nvPr/>
          </p:nvSpPr>
          <p:spPr>
            <a:xfrm>
              <a:off x="1182600" y="547848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43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2304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67320" y="218268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7320" y="257004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67320" y="295596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7320" y="334152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67320" y="372744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67320" y="411336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67320" y="565776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67320" y="450072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67320" y="488628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67320" y="527220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6732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796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1960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7204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7368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2468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7712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2812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2184480"/>
            <a:ext cx="0" cy="385920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5662440"/>
            <a:ext cx="3879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91440" y="5452920"/>
            <a:ext cx="606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48320" y="1612800"/>
            <a:ext cx="606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86400" y="6043680"/>
            <a:ext cx="35114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25880" y="2017800"/>
            <a:ext cx="0" cy="4265640"/>
          </a:xfrm>
          <a:prstGeom prst="line">
            <a:avLst/>
          </a:prstGeom>
          <a:ln w="9360">
            <a:solidFill>
              <a:srgbClr val="ffff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26040" y="34275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1320" y="36608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7000" y="53722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48440" y="5135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6720" y="46958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92960" y="530532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64240" y="3722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16520" y="39974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22960" y="413532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88040" y="5095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04080" y="42782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15000" y="4981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64240" y="43959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91120" y="47228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46600" y="5105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4640" y="478476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4800" y="1643040"/>
            <a:ext cx="3510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ich of the following statements could be made to reflect the scatter plot if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presents price and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presents purchas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) As the price increases, the number of purchases in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) As the price decreases, the number of purchases in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) As the price decreases, the number of purchases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) There is no correlation between price and purch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****Answers***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76520" y="1981080"/>
            <a:ext cx="5333760" cy="29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OPS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486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go back to the mai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09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selected an area of the board not in 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8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3" name=""/>
          <p:cNvGraphicFramePr/>
          <p:nvPr/>
        </p:nvGraphicFramePr>
        <p:xfrm>
          <a:off x="2666880" y="2871720"/>
          <a:ext cx="3819600" cy="22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871720"/>
                    <a:ext cx="381960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8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3314880" y="2916360"/>
          <a:ext cx="225252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4880" y="2916360"/>
                    <a:ext cx="22525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9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5" name=""/>
          <p:cNvGraphicFramePr/>
          <p:nvPr/>
        </p:nvGraphicFramePr>
        <p:xfrm>
          <a:off x="3314880" y="2916360"/>
          <a:ext cx="225252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4880" y="2916360"/>
                    <a:ext cx="22525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9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1" name=""/>
          <p:cNvGraphicFramePr/>
          <p:nvPr/>
        </p:nvGraphicFramePr>
        <p:xfrm>
          <a:off x="3218040" y="2598840"/>
          <a:ext cx="2447640" cy="13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18040" y="2598840"/>
                    <a:ext cx="244764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05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7" name=""/>
          <p:cNvGraphicFramePr/>
          <p:nvPr/>
        </p:nvGraphicFramePr>
        <p:xfrm>
          <a:off x="3193920" y="2598840"/>
          <a:ext cx="2495520" cy="13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3920" y="2598840"/>
                    <a:ext cx="249552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1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3" name=""/>
          <p:cNvGraphicFramePr/>
          <p:nvPr/>
        </p:nvGraphicFramePr>
        <p:xfrm>
          <a:off x="1947960" y="2397240"/>
          <a:ext cx="5580000" cy="28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7960" y="2397240"/>
                    <a:ext cx="558000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1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2532240" y="2575080"/>
          <a:ext cx="3819240" cy="13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32240" y="2575080"/>
                    <a:ext cx="381924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2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5" name=""/>
          <p:cNvGraphicFramePr/>
          <p:nvPr/>
        </p:nvGraphicFramePr>
        <p:xfrm>
          <a:off x="2496960" y="2260440"/>
          <a:ext cx="3918240" cy="33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6960" y="2260440"/>
                    <a:ext cx="391824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2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3049560" y="3471840"/>
          <a:ext cx="337680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560" y="3471840"/>
                    <a:ext cx="33768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35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7" name=""/>
          <p:cNvGraphicFramePr/>
          <p:nvPr/>
        </p:nvGraphicFramePr>
        <p:xfrm>
          <a:off x="2803680" y="3178080"/>
          <a:ext cx="3867120" cy="13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03680" y="3178080"/>
                    <a:ext cx="386712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lope intercept form with all the letters expl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0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4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3" name=""/>
          <p:cNvGraphicFramePr/>
          <p:nvPr/>
        </p:nvGraphicFramePr>
        <p:xfrm>
          <a:off x="1616040" y="2338560"/>
          <a:ext cx="5867280" cy="278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6040" y="2338560"/>
                    <a:ext cx="58672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4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9" name=""/>
          <p:cNvGraphicFramePr/>
          <p:nvPr/>
        </p:nvGraphicFramePr>
        <p:xfrm>
          <a:off x="2624040" y="3214800"/>
          <a:ext cx="352116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4040" y="3214800"/>
                    <a:ext cx="35211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5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3240000" y="2701800"/>
          <a:ext cx="23004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701800"/>
                    <a:ext cx="2300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5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1" name=""/>
          <p:cNvGraphicFramePr/>
          <p:nvPr/>
        </p:nvGraphicFramePr>
        <p:xfrm>
          <a:off x="2900520" y="3057480"/>
          <a:ext cx="308448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0520" y="3057480"/>
                    <a:ext cx="30844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65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2862360" y="2884320"/>
          <a:ext cx="312876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62360" y="2884320"/>
                    <a:ext cx="31287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7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3" name=""/>
          <p:cNvGraphicFramePr/>
          <p:nvPr/>
        </p:nvGraphicFramePr>
        <p:xfrm>
          <a:off x="3767040" y="2884320"/>
          <a:ext cx="131940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7040" y="2884320"/>
                    <a:ext cx="13194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7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3621240" y="2932200"/>
          <a:ext cx="1612800" cy="58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21240" y="2932200"/>
                    <a:ext cx="1612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8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 txBox="1"/>
          <p:nvPr/>
        </p:nvSpPr>
        <p:spPr>
          <a:xfrm>
            <a:off x="3259080" y="2468520"/>
            <a:ext cx="208908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88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0" name=""/>
          <p:cNvGraphicFramePr/>
          <p:nvPr/>
        </p:nvGraphicFramePr>
        <p:xfrm>
          <a:off x="3205080" y="2567160"/>
          <a:ext cx="2443320" cy="13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5080" y="2567160"/>
                    <a:ext cx="244332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94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 txBox="1"/>
          <p:nvPr/>
        </p:nvSpPr>
        <p:spPr>
          <a:xfrm>
            <a:off x="2362320" y="2438280"/>
            <a:ext cx="4495680" cy="23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 and II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1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has a slope of 3 and 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1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9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371600" y="2770200"/>
            <a:ext cx="622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ITIVE COR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2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04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 txBox="1"/>
          <p:nvPr/>
        </p:nvSpPr>
        <p:spPr>
          <a:xfrm>
            <a:off x="3527280" y="2522520"/>
            <a:ext cx="20750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3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0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995400" y="2057400"/>
            <a:ext cx="7032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ot th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aw a line of best 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wo points ON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slope between th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in point – slope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4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14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3527280" y="2522520"/>
            <a:ext cx="20750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5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1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 txBox="1"/>
          <p:nvPr/>
        </p:nvSpPr>
        <p:spPr>
          <a:xfrm>
            <a:off x="3886200" y="2590920"/>
            <a:ext cx="110160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04920" y="0"/>
            <a:ext cx="8458200" cy="6095880"/>
            <a:chOff x="304920" y="0"/>
            <a:chExt cx="8458200" cy="6095880"/>
          </a:xfrm>
        </p:grpSpPr>
        <p:sp>
          <p:nvSpPr>
            <p:cNvPr id="623" name=""/>
            <p:cNvSpPr/>
            <p:nvPr/>
          </p:nvSpPr>
          <p:spPr>
            <a:xfrm>
              <a:off x="380880" y="0"/>
              <a:ext cx="8382240" cy="609588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304920" y="685800"/>
              <a:ext cx="7467480" cy="49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AIL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OUB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626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CONTI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304920" y="0"/>
            <a:ext cx="8458200" cy="6095880"/>
            <a:chOff x="304920" y="0"/>
            <a:chExt cx="8458200" cy="6095880"/>
          </a:xfrm>
        </p:grpSpPr>
        <p:sp>
          <p:nvSpPr>
            <p:cNvPr id="629" name=""/>
            <p:cNvSpPr/>
            <p:nvPr/>
          </p:nvSpPr>
          <p:spPr>
            <a:xfrm>
              <a:off x="380880" y="0"/>
              <a:ext cx="8382240" cy="609588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304920" y="685800"/>
              <a:ext cx="7467480" cy="49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AIL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OUB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63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CONTI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ions for Changing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hange the questions and answers, just type over the problems…Use the “replace” feature to change the categorie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ily doubles were originally set to category #4 for $500 and category #2 for 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hange the daily doubles you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hange the hyperlink for the links on the main board to go to the appropriate question, therefore bypassing the daily doubl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Change the hyperlink on the continue button on each daily double slide to go to the new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1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 (3, 2) and has a slope of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2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s 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, 4) and (2, 6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2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63600" y="2209680"/>
            <a:ext cx="677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is parallel to the line                    and has a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–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0"/>
          <a:ext cx="914400" cy="1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79640" y="3191040"/>
          <a:ext cx="194148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79640" y="3191040"/>
                    <a:ext cx="19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37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14300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oint slope intercept form with all the letters expl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21:26:42Z</dcterms:created>
  <dc:creator>Chad Leckie</dc:creator>
  <dc:description/>
  <dc:language>en-US</dc:language>
  <cp:lastModifiedBy>Charles Leckie, Jr.</cp:lastModifiedBy>
  <dcterms:modified xsi:type="dcterms:W3CDTF">2003-11-24T04:57:00Z</dcterms:modified>
  <cp:revision>19</cp:revision>
  <dc:subject/>
  <dc:title>JEOPARDY</dc:title>
</cp:coreProperties>
</file>